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2D9-8947-4710-A1B7-98406DE6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311-0D7D-46A7-B79D-E339E7CB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763-A8CD-4201-9045-593F3449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FAC-FC9E-44E4-8CD9-EC13435A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FC0-BC3D-4224-9238-55950066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8D4-EC1D-431F-9663-9DEC76B3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23C-2467-4EBB-82AD-1F1F29A5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A3A-9B9E-4A08-A8C2-2837761E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7CA-4190-4036-969F-51DD6FD6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BB1-9434-4FA8-AE44-9D59449C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345-BE1A-47DD-B6F1-812DEBA2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0DB-D939-4366-B9AF-B6E7D5DD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73D2-397C-4A64-9687-1434DAACA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5.xml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" Target="slide36.xml"/><Relationship Id="rId6" Type="http://schemas.openxmlformats.org/officeDocument/2006/relationships/slide" Target="slide37.xml"/><Relationship Id="rId7" Type="http://schemas.openxmlformats.org/officeDocument/2006/relationships/slide" Target="slide38.xml"/><Relationship Id="rId8" Type="http://schemas.openxmlformats.org/officeDocument/2006/relationships/slide" Target="slide39.xml"/><Relationship Id="rId9" Type="http://schemas.openxmlformats.org/officeDocument/2006/relationships/slide" Target="slide40.xml"/><Relationship Id="rId10" Type="http://schemas.openxmlformats.org/officeDocument/2006/relationships/slide" Target="slide41.xml"/><Relationship Id="rId11" Type="http://schemas.openxmlformats.org/officeDocument/2006/relationships/slide" Target="slide42.xml"/><Relationship Id="rId12" Type="http://schemas.openxmlformats.org/officeDocument/2006/relationships/slide" Target="slide43.xml"/><Relationship Id="rId13" Type="http://schemas.openxmlformats.org/officeDocument/2006/relationships/slide" Target="slide44.xml"/><Relationship Id="rId14" Type="http://schemas.openxmlformats.org/officeDocument/2006/relationships/slide" Target="slide45.xml"/><Relationship Id="rId15" Type="http://schemas.openxmlformats.org/officeDocument/2006/relationships/slide" Target="slide46.xml"/><Relationship Id="rId16" Type="http://schemas.openxmlformats.org/officeDocument/2006/relationships/slide" Target="slide46.xml"/><Relationship Id="rId17" Type="http://schemas.openxmlformats.org/officeDocument/2006/relationships/slide" Target="slide46.xml"/><Relationship Id="rId18" Type="http://schemas.openxmlformats.org/officeDocument/2006/relationships/slide" Target="slide46.xml"/><Relationship Id="rId19" Type="http://schemas.openxmlformats.org/officeDocument/2006/relationships/slide" Target="slide47.xml"/><Relationship Id="rId20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56.xml"/><Relationship Id="rId3" Type="http://schemas.openxmlformats.org/officeDocument/2006/relationships/slide" Target="slide8.xml"/><Relationship Id="rId4" Type="http://schemas.openxmlformats.org/officeDocument/2006/relationships/slide" Target="slide11.xml"/><Relationship Id="rId5" Type="http://schemas.openxmlformats.org/officeDocument/2006/relationships/slide" Target="slide2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roduzca la fecha y la hora del term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01/02/2006 12: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ulse la tecla “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” para validar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cio del Ter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mpresión Erro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resión de infracciones no real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tión de Insp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r favor introduzca la contraseña maest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pulse la tecla “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 para continu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87680" y="5445000"/>
            <a:ext cx="197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r a gestión de inspe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3480" y="5445000"/>
            <a:ext cx="191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contraseña incor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seña Incor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raseña incorrec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v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menú princip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ú Gestión de Insp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Añadir un nuevo inspecto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2" action="ppaction://hlinksldjump"/>
              </a:rPr>
              <a:t>Eliminar inspecto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3" action="ppaction://hlinksldjump"/>
              </a:rPr>
              <a:t>Lista de inspector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4" action="ppaction://hlinksldjump"/>
              </a:rPr>
              <a:t>Volve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r Inspector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r favor introduzca nombre del nuevo insp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pulse la tecla “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 para continu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000" y="544500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r a introducir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4920" y="544500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nombre incor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4200" y="57340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r a nombre en 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: Usuario en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 nombre de usuario ya está en u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“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: Nombre Incorrec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 nombre de usuario es demasiado lar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 longitud máxima para un 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 usuario es de 8 caract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“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r Inspector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roduzca el PIN y pulse “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r Inspector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roduzca nuevamente el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pulse “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 para continu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3080" y="544500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r PIN cor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360" y="544500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PIN incor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rror: Pin Erro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s números PIN introducidos no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eración de introducción de op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realizada correct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volver introducir PI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cio de S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r favor introduzca nombre de usuario y P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pulse la tecla “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 para continu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88760" y="5445000"/>
            <a:ext cx="20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r a inicio de sesión cor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2400" y="5445000"/>
            <a:ext cx="22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inicio de sesión incor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tor Introdu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eración de introducción de insp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lizada correct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a volver al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menú princip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0920" y="537372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PIN incor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minar Inspector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r favor introduzca nombre de insp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pulse la tecla “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 para continu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0200" y="5445000"/>
            <a:ext cx="164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r a eliminar insp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4920" y="544500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nombre incor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tor No Ex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existe ningún inspector con ese no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a volver al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menú princip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minar Inspector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 a eliminar el inspector: Inspec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¿Está seguro? Pulse la tecla S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eliminarl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alquier otr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2" action="ppaction://hlinksldjump"/>
              </a:rPr>
              <a:t>cancel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la elimi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minación Cancel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 canceló la eliminación de insp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a volver al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menú princip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76400" y="544500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inspector elimi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tor Elimin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eración de eliminación de insp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lizada correct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a volver al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menú princip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74960" y="544500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eliminación cancel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a de Insp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spectores dados de alta en el servid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jlo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ape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r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spe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ulse cualquier tecla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volver al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menú anterio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ío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ceso de envío de datos en a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r favor esp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1280" y="544500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r a envío cor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4920" y="5445000"/>
            <a:ext cx="153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envío incor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ío de Datos Corr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ceso de envío de datos correctamente real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a volver al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menú princip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78200" y="5445000"/>
            <a:ext cx="153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envío incor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en Envío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ha sido posible realizar el envío de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a volver al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menú princip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4560" y="544500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envío cor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cio de Sesión Corr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icio de sesión correctamente real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Nombre de fichero gener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rinspect_jlopez_01020304_1.r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de Tarjet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r favor introduzca cantidad de viajero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ajan con la misma tarj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pulse la tecla “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de Tarjet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r favor acerque la tarjeta a inspecciona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a volver al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menú princip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3320" y="544500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resultados de 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ados de Insp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ás de una tarjeta 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eid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ipo de tarjeta no válid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ransacción interrumpid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Aplicación incorrect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Tarjeta y / o terminal no autén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arjeta ilegibl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Aplicación fuera del periodo de validez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Aplicación no admitid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Versión de aplicación no admitid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Tarjeta en lista negr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Aplicación no activ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Ningún título activ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Ningún perfil válid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Título(s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) no 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válido(s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Sin san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en Insp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r favor acerque solo una tarj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Sancionabl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pección sancio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o de tarjeta no vál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continu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3320" y="544500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r a resultados de 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Irregular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pección irregular - Transacción interrump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3320" y="545940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resultados de 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Sancionabl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pección sancio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jeta con aplicación incorrec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3320" y="544500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resultados de 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Sancionable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pección sancio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jeta y / o terminal no autén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3320" y="544500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resultados de 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Irregular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pección ir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jeta ilegible (lectura de fichero no posib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3320" y="544500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resultados de 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Sancionable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pección sancionable – Tarj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 aplicación fuera del periodo de valid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3320" y="544500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resultados de 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en Inicio de S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mbre de usuario o contraseña incorr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volve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Sancionable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pección sancio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jeta con aplicación no admit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03320" y="544500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resultados de 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Sancionable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pección sancio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jeta con versión de aplicación no admit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3320" y="544500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resultados de 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Sancionable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pección sancionable - Tarjeta en lista neg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3320" y="544500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resultados de 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Sancionable (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pección sancio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jeta con aplicación no a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03320" y="544500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resultados de 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Sancionable (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pección sancio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jeta sin ningún título ac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3320" y="544500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resultados de 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Sancionable (1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pección sancio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jeta sin ningún perfil vál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03320" y="544500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resultados de 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Sancionable (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spección sancio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Tarjeta sin título(s) válido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03320" y="544500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resultados de 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Cor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pección cor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3320" y="544500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resultados de 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ado de Insp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RESULTADO DE OPERACIÓN DE INSP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ajeros inspeccionados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ajeros sin título válido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e total de sanciones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,00 e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la tecla “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 para continu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o en el A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r favor introduzca cantidad de viaj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e pagarán la multa en el 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pulse la tecla “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 para continu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89840" y="544500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 a cantidad cor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73840" y="5445000"/>
            <a:ext cx="17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 a cantidad incor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ú 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Inspección de tarjet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2" action="ppaction://hlinksldjump"/>
              </a:rPr>
              <a:t>Inspección de viajero sin tarjet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3" action="ppaction://hlinksldjump"/>
              </a:rPr>
              <a:t>Impresión de registros de infraccion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4" action="ppaction://hlinksldjump"/>
              </a:rPr>
              <a:t>Gestión de inspector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5" action="ppaction://hlinksldjump"/>
              </a:rPr>
              <a:t>Envío de dato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6" action="ppaction://hlinksldjump"/>
              </a:rPr>
              <a:t>Fin de sesió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erre del term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en Pago en el A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 número de viajeros a pagar en el acto no pu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r mayor que el número de viajeros san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esione cualquier te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a volver a la pantalla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iones en la tarj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ción correc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ítulo no vál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jeta en lista neg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 de resul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iones en la Tarjet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1.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Ninguna acció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2.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irar tarjeta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5120" y="5445000"/>
            <a:ext cx="17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 a acciones en tarj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39280" y="580536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iones en la Tarjet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inguna a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sactivar la apl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sactivar el primer títu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sactivar el segundo títu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sactivar el tercer títu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irar la tarj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05120" y="5445000"/>
            <a:ext cx="17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 a acciones en tarj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39280" y="580536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iones en la Tarjeta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inguna a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Acción de la lista negr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irar tarjet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05120" y="5445000"/>
            <a:ext cx="17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 a acciones en tarj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39280" y="580536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e de Insp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1989000"/>
            <a:ext cx="6913800" cy="33847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Courier New"/>
              </a:rPr>
              <a:t>INFORME DE INSPECCIÓN DE TARJ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3: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Número serie de tarjeta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04B13789AFC1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spector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jlo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ferencia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0x12345678123456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Operador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Línea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Zona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Viajeros sin título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anción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50,00 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49120" y="58053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 al menú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sin Tarjet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r favor introduzca cantidad de viajero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ajan con el mismo tí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pulse la tecla “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 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ción sin Tarjet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r favor introduzca cantidad de viaj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e no disponen de un billete vá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pulse la tecla “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 para continu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Número de Sa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 número de viajeros sin bil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puede ser mayor que el número de viaj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esione cualquier tec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a volver a l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pantalla anterio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o en el A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: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r favor introduzca cantidad de viaj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e pagarán la multa en el 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pulse la tecla “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 para continu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 de Sesión Corr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Fin de sesión correctamente real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Nombre de fichero actualiz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rinspect_01020304_jlopez_1.r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88760" y="5445000"/>
            <a:ext cx="20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fin de sesión incor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e de Insp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1989000"/>
            <a:ext cx="6913800" cy="33847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Courier New"/>
              </a:rPr>
              <a:t>INFORME DE INSPECCIÓN SIN TARJ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unto de inspección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01020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Fecha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0/1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Hora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3: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Número serie de tarjeta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000000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spector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jlo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ferencia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2345678123456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Operador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Línea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Zona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Viajeros sin título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anción: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50,00 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49120" y="58053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 al menú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 de Sesión Incorr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ha sido posible realizar el fin de se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se ha actualizado ningún fich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ión de Regis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1557360"/>
            <a:ext cx="6913440" cy="424800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roduzca el o los archivos a imprim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pulse “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050920" y="1989000"/>
          <a:ext cx="5256360" cy="2498760"/>
        </p:xfrm>
        <a:graphic>
          <a:graphicData uri="http://schemas.openxmlformats.org/drawingml/2006/table">
            <a:tbl>
              <a:tblPr/>
              <a:tblGrid>
                <a:gridCol w="719280"/>
                <a:gridCol w="4537080"/>
              </a:tblGrid>
              <a:tr h="50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mbre de fichero de infracciones a imprimir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rinspect_01020304_jlopez_1.re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rinspect_01020304_mperez_2.re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rinspect_01020304_creyes_3.re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rinspect_01020304_jlopez_4.re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762200" y="602136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r a impresión cor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6200" y="602136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impresión incor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ión Cor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2565360"/>
            <a:ext cx="6913800" cy="244944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resión de infracciones correctamente real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lse cualquier tecla par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continua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0200" y="544500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r a impresión incor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0:29:37Z</dcterms:created>
  <dc:creator>acc</dc:creator>
  <dc:description/>
  <dc:language>en-US</dc:language>
  <cp:lastModifiedBy>acc</cp:lastModifiedBy>
  <dcterms:modified xsi:type="dcterms:W3CDTF">2006-10-06T14:09:01Z</dcterms:modified>
  <cp:revision>15</cp:revision>
  <dc:subject/>
  <dc:title>Diapositiva 1</dc:title>
</cp:coreProperties>
</file>